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C82-D42E-4489-9B9A-A74BB1B6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082-D57A-4D29-BB61-A8207DD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305-C963-4FC8-8ED7-83ACE6D3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675-1DD9-418F-ADEA-0E17247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4CA3-BFDA-48EA-BEF8-D2E4F1D7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79D-53A3-4403-8E8B-5622C4DF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2CC4-C223-4AAC-A9E2-D1C596AC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54D2-87D6-4D86-A7DA-08B31281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7F5C-D507-4CEA-AE0C-306DE631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C823-8A6A-45F0-B6FE-0E94C7D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A364-A96B-4044-B3E9-419AC464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F8D-7411-460D-A92C-D9A34CF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6F50-8554-4C3E-8E54-26FF662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CE15-FE70-4FA3-9214-10FFE15B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DB90-4731-4761-BC34-D1E01DD6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4C4D-3841-4C87-9322-2F94B0B8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7856-BE6E-47FA-A1E3-3259956D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0AF-30F1-44E1-8EDE-C70112D7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E83-7589-42A1-AEEA-E51F143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48D-FD77-44A5-94F3-1B6D74E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B32-2744-43C0-A1A7-C0F6A1F8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F05-96D6-40B1-8A43-B5B89E4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5A5-7562-4AE3-8593-F9E33565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928-4B75-4B76-AFB5-061B667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750-43C3-4FFF-B5DE-12F5D53C42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730A-4360-4559-8457-07076D39FA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Garamond"/>
              </a:rPr>
              <a:t>Me llamo _________</a:t>
            </a:r>
            <a:r>
              <a:rPr b="0" lang="en-US" sz="3200" spc="-1" strike="noStrike">
                <a:solidFill>
                  <a:srgbClr val="666699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Garamond"/>
              </a:rPr>
              <a:t>                Clase 8nv</a:t>
            </a:r>
            <a:br>
              <a:rPr sz="3200"/>
            </a:br>
            <a:r>
              <a:rPr b="0" lang="en-US" sz="3200" spc="-1" strike="noStrike">
                <a:solidFill>
                  <a:srgbClr val="666699"/>
                </a:solidFill>
                <a:latin typeface="Garamond"/>
              </a:rPr>
              <a:t>La fecha es el primero de noviembre del 2011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11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finalizamos el repas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completa con el antónimo correc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estupid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antipátic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mal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perezos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débi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viej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teli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imp</a:t>
            </a:r>
            <a:r>
              <a:rPr b="0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á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495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u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5029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rabaj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562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j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11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s hojas distribuida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galo bi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bject is singular - use gu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 gusta e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lib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 gusta e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lib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bject is plural - use gust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 gustan lo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libro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 gustan lo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libr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ngular Subjec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lural Su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a casa.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n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as cas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T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el cuarto.      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T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n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os cuar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a silla.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n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as sill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Nos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el hotel.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Nos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n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os hote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el reloj.       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Verdana"/>
              </a:rPr>
              <a:t>gustan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los reloj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441680" y="380880"/>
            <a:ext cx="112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600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657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Él/ella/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5638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llos/ellas/U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actica: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scribe en espanol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e te gusta hacer en tu tiempo lib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 gusta…. / No me gust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e le gusta hacer en su tiempo lib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gusta… / No le gust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30080" y="685800"/>
            <a:ext cx="17845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29000" y="773280"/>
            <a:ext cx="2133720" cy="2027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838440" cy="281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209556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172200" y="401004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8600" y="299736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cuchar mús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2840" y="280368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irar la televi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50320" y="342900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blar por telé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9480" y="6248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n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0680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8280" y="60199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c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o se dice en espanol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7920" y="7621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245772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62120" y="762120"/>
            <a:ext cx="16999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429000" y="3379680"/>
            <a:ext cx="2543040" cy="2487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477120" y="3429000"/>
            <a:ext cx="2057400" cy="2028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4320" y="25909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m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14200" y="26668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8880" y="2666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Descan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77920" y="5410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N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03280" y="586728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Vi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1920" y="563868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car la guitar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25756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46640" y="457200"/>
            <a:ext cx="2206440" cy="2362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920" y="3762360"/>
            <a:ext cx="2590560" cy="212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2492280" cy="2895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019920" y="3733920"/>
            <a:ext cx="2895480" cy="2074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434280" y="533520"/>
            <a:ext cx="217008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1680" y="2590920"/>
            <a:ext cx="202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car el p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9680" y="2895480"/>
            <a:ext cx="26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ar la com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82800" y="3124080"/>
            <a:ext cx="2312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ar la ro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7320" y="5715000"/>
            <a:ext cx="1982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Béisb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37600" y="6248520"/>
            <a:ext cx="31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futbol americ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92800" y="5638680"/>
            <a:ext cx="2387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balonc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5160" y="565200"/>
            <a:ext cx="3571920" cy="217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86400" y="62532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2792520" cy="350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7400" y="2803680"/>
            <a:ext cx="176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futb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76760" y="2651040"/>
            <a:ext cx="2462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videoju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3600" y="6095880"/>
            <a:ext cx="291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Usar la computad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5280" y="6172200"/>
            <a:ext cx="136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tudi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495680" y="2666880"/>
            <a:ext cx="1676520" cy="2733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620120" y="1905120"/>
            <a:ext cx="1162080" cy="1969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41000" y="2666880"/>
            <a:ext cx="2189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cer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2209680"/>
            <a:ext cx="1285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l 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85000" y="2057400"/>
            <a:ext cx="1590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 fies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2160" y="5867280"/>
            <a:ext cx="166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 la pl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9400" y="5410080"/>
            <a:ext cx="235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Leer el periód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2640" y="3733920"/>
            <a:ext cx="1935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de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020000" y="4419720"/>
            <a:ext cx="1743120" cy="1911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75720" y="6324480"/>
            <a:ext cx="2710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Salir con amigos/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0:46Z</dcterms:created>
  <dc:creator>Helen Zumaeta</dc:creator>
  <dc:description/>
  <dc:language>en-US</dc:language>
  <cp:lastModifiedBy>NYCDOE</cp:lastModifiedBy>
  <dcterms:modified xsi:type="dcterms:W3CDTF">2011-11-16T14:12:59Z</dcterms:modified>
  <cp:revision>9</cp:revision>
  <dc:subject/>
  <dc:title>Me llamo _________       Clase 10 NM La fecha es el 21 de septiembre del 2011</dc:title>
</cp:coreProperties>
</file>